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02AF-5EB7-4F3B-8B6C-37DC2B0DD3C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2212-4CD2-437F-99B5-C649809F7C2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F54E-1391-4148-B7AD-559C575A51A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75E-5096-4BB1-88A7-2485EA494D1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4903-8BA5-4F63-948F-AE6D545CA27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748-CC3C-4EC3-ACA5-60389A8EC35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07D-F9AE-44A8-91F5-3109761434A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A02C-A0CC-48B2-A0E9-F62CDD58893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6F5-FBE8-4BC2-932E-D293214C473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3D82-FCA4-45D1-A187-952A2D7D8AF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246F-CFEB-403D-8F0C-DD41E92BD25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7B51-1C2A-4A83-94CF-3D740692BBF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F1D3-3C7C-44A7-86EF-AEE5B6F5395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4A14-8B5D-47D6-93CD-7717DAFD3DB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9F2C-E297-4C06-8E42-A86FF53E228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751D-4EE3-433C-960A-A8E8BBD9DB0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3E9E-925A-4AFD-B77A-7CA43F0DB90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4E46-11D2-4749-B3D0-7D58BEF57B4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67F8-F910-4E1B-BB95-3CEE5CC4F8D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674-D7D3-4B26-9848-C7688A06AC5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2D73-98D5-4EC1-A9A1-9B4BA739E18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C93-DC83-4EE9-8D62-D3CFA3CE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910-43B3-4ED7-A7D5-AA5D7EE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AD8-8600-4CFF-A1E2-ADD052A2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6ED-FBEB-45C7-B823-EE16D552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8CE-1C71-4693-9607-AB93AEC0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21A-D94E-4F02-B32F-5B9F590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2FB-1420-4A0F-8639-2B394E66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3BE-9BD5-45A2-BE4F-9B6D37C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233-B9B4-45A9-A1E9-24D9346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25F-983E-4128-AEB4-4388FD62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687-6505-44E7-8A1B-D96C5E2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D21-6DFA-4932-9E2C-4580818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FF55-F3A2-4A05-8531-90555862087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B327-EFE7-46EA-93EC-2937B35185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ОРОФАЦИЈАЛНЕ РЕГ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37 - 39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Бенигни тумори меких ткива, остеогени бенигни тумори, неодонтогени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бенигни тумори, одонтогени тумори, терапија бенигних тумора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01560" y="6180120"/>
            <a:ext cx="78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955F-2BDB-4B7B-8B77-724ACB35D13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13" name="Picture 9" descr="C:\Users\Zoran\Downloads\oralna hirurgija\slike\benigni\fibroma\images.jpg"/>
          <p:cNvPicPr/>
          <p:nvPr/>
        </p:nvPicPr>
        <p:blipFill>
          <a:blip r:embed="rId1"/>
          <a:stretch/>
        </p:blipFill>
        <p:spPr>
          <a:xfrm>
            <a:off x="500040" y="1833480"/>
            <a:ext cx="282744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C:\Users\Zoran\Downloads\oralna hirurgija\slike\benigni\fibroma\images (1).jpg"/>
          <p:cNvPicPr/>
          <p:nvPr/>
        </p:nvPicPr>
        <p:blipFill>
          <a:blip r:embed="rId2"/>
          <a:srcRect l="0" t="0" r="1634" b="27189"/>
          <a:stretch/>
        </p:blipFill>
        <p:spPr>
          <a:xfrm>
            <a:off x="3598920" y="1866960"/>
            <a:ext cx="24732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:\Users\Zoran\Downloads\oralna hirurgija\slike\benigni\fibroma\images (2).jpg"/>
          <p:cNvPicPr/>
          <p:nvPr/>
        </p:nvPicPr>
        <p:blipFill>
          <a:blip r:embed="rId3"/>
          <a:stretch/>
        </p:blipFill>
        <p:spPr>
          <a:xfrm>
            <a:off x="500040" y="4006800"/>
            <a:ext cx="27957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:\Users\Zoran\Downloads\oralna hirurgija\slike\benigni\fibroma\images (4).jpg"/>
          <p:cNvPicPr/>
          <p:nvPr/>
        </p:nvPicPr>
        <p:blipFill>
          <a:blip r:embed="rId4"/>
          <a:stretch/>
        </p:blipFill>
        <p:spPr>
          <a:xfrm>
            <a:off x="3610080" y="4033800"/>
            <a:ext cx="2604960" cy="194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C:\Users\Zoran\Downloads\oralna hirurgija\slike\benigni\fibroma\images (3).jpg"/>
          <p:cNvPicPr/>
          <p:nvPr/>
        </p:nvPicPr>
        <p:blipFill>
          <a:blip r:embed="rId5"/>
          <a:stretch/>
        </p:blipFill>
        <p:spPr>
          <a:xfrm>
            <a:off x="6303960" y="300348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986-F91D-4611-A39B-2B31BD56640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57200" y="172080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п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спорорастући бенигни тумори пореклом од масног ткива или у његовој непосредној око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, липоми су јасном ограничени, слободно покретни тумори, сферичног облика и жућкасте боје мас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ипоми се уклањају ексцизијом тумора у ц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ба бити обазрив уколико су локализовани у близини масног јастучета образа да се ова формација не протумачи погрешно као лип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FAA-946C-4FCF-A1FD-5765138421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Zoran\Downloads\oralna hirurgija\slike\benigni\download (2).jpg"/>
          <p:cNvPicPr/>
          <p:nvPr/>
        </p:nvPicPr>
        <p:blipFill>
          <a:blip r:embed="rId1"/>
          <a:stretch/>
        </p:blipFill>
        <p:spPr>
          <a:xfrm>
            <a:off x="619200" y="1494000"/>
            <a:ext cx="3220920" cy="24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Zoran\Downloads\oralna hirurgija\slike\benigni\download.jpg"/>
          <p:cNvPicPr/>
          <p:nvPr/>
        </p:nvPicPr>
        <p:blipFill>
          <a:blip r:embed="rId2"/>
          <a:srcRect l="0" t="3657" r="2700" b="7726"/>
          <a:stretch/>
        </p:blipFill>
        <p:spPr>
          <a:xfrm>
            <a:off x="3448080" y="3621240"/>
            <a:ext cx="2523960" cy="28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Zoran\Downloads\oralna hirurgija\slike\benigni\images.jpg"/>
          <p:cNvPicPr/>
          <p:nvPr/>
        </p:nvPicPr>
        <p:blipFill>
          <a:blip r:embed="rId3"/>
          <a:stretch/>
        </p:blipFill>
        <p:spPr>
          <a:xfrm>
            <a:off x="5378400" y="1539720"/>
            <a:ext cx="33400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65E3-059B-446B-9941-4A2E95D3FEB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69800" y="1623960"/>
            <a:ext cx="818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е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сте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бенигни тумори који расту споро, по правилу у доњој вилици, изазивајући деформитет одговарајућег пре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стављени су од зреле кости, а у зависности од места настанка, деле с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централне ( ендосеалне )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перифе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2F8-2EB0-488D-A231-C2802D6C8A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80960" y="1757520"/>
            <a:ext cx="820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ентрални остеоми настају на унутрашњој страни кортекса и шире се у спонги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нарасту изазивају локализовану експанзиј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карактеришу се јасно ограниченим засенчењем кости које је оивичено танком линијом расветљења коју даје мембрана остеома. Оклузална или аксијална пројекција потврђују ендосеално порекло лезије, на унутрашњој страни корт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88BF-1725-47C9-AC7F-46853BADF45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" y="1660680"/>
            <a:ext cx="8182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остеоми настају од периоста или сам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 бити састављени од компактне кости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steoma durum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ли спонгиозне кости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steoma spongiosum 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вљају се и у мандибули и максили, посебно често у пределу рамуса, на кондиларном или короноидном наставку, тврдом непцу и, понекад и у син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ултипли периферни остеоми су једна од карактеристика Гарднеровог синдрома ( мултипла полипоза танког црева, лојних циста коже, одонтома и импактирани прекобројни зуб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еоми се лече хируршки – ексциз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B3A-6274-4C37-870F-60EB500B321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Zoran\Downloads\oralna hirurgija\slike\benigni\osteoma\images (1).jpg"/>
          <p:cNvPicPr/>
          <p:nvPr/>
        </p:nvPicPr>
        <p:blipFill>
          <a:blip r:embed="rId1"/>
          <a:stretch/>
        </p:blipFill>
        <p:spPr>
          <a:xfrm>
            <a:off x="449280" y="1398600"/>
            <a:ext cx="3711600" cy="2627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Zoran\Downloads\oralna hirurgija\slike\benigni\osteoma\images.jpg"/>
          <p:cNvPicPr/>
          <p:nvPr/>
        </p:nvPicPr>
        <p:blipFill>
          <a:blip r:embed="rId2"/>
          <a:stretch/>
        </p:blipFill>
        <p:spPr>
          <a:xfrm>
            <a:off x="6276960" y="1419120"/>
            <a:ext cx="2278080" cy="331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Zoran\Downloads\oralna hirurgija\slike\benigni\osteoma\images (2).jpg"/>
          <p:cNvPicPr/>
          <p:nvPr/>
        </p:nvPicPr>
        <p:blipFill>
          <a:blip r:embed="rId3"/>
          <a:stretch/>
        </p:blipFill>
        <p:spPr>
          <a:xfrm>
            <a:off x="3170160" y="4008600"/>
            <a:ext cx="31719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rcRect l="0" t="0" r="557" b="20662"/>
          <a:stretch/>
        </p:blipFill>
        <p:spPr>
          <a:xfrm>
            <a:off x="488880" y="4098960"/>
            <a:ext cx="2649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469-8C32-4878-92AE-D8A85EC0070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33440" y="16239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Егзостозе и то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Zoran\Downloads\oralna hirurgija\slike\preprotetska\image060.gif"/>
          <p:cNvPicPr/>
          <p:nvPr/>
        </p:nvPicPr>
        <p:blipFill>
          <a:blip r:embed="rId1"/>
          <a:stretch/>
        </p:blipFill>
        <p:spPr>
          <a:xfrm>
            <a:off x="274680" y="2730600"/>
            <a:ext cx="4333680" cy="291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Users\Zoran\Downloads\oralna hirurgija\slike\preprotetska\image071.gif"/>
          <p:cNvPicPr/>
          <p:nvPr/>
        </p:nvPicPr>
        <p:blipFill>
          <a:blip r:embed="rId2"/>
          <a:srcRect l="6338" t="0" r="3173" b="12353"/>
          <a:stretch/>
        </p:blipFill>
        <p:spPr>
          <a:xfrm>
            <a:off x="4757760" y="2728800"/>
            <a:ext cx="417672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D801-AF50-4A1A-8C60-5F6807564DA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20840" y="1552680"/>
            <a:ext cx="8218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онд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лативно редак тумор вилица, састављен искључиво од зрелог хрскавичав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ци хрскавице у мандибули могу да се нађу у пределу симфизе, брадног отвора и око инцизив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максили, ови бенигни тумори често настају од остатака носне хрска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ондроми се јављају као безболни, релативно покретни тумори, расту споро и могу достићи завидну велич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рз раст са дислокацијом присутних зуба, као и појава болова, могу да буду знаци малигн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3DB-02AE-4992-BC84-44DE25A965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444600" y="1697040"/>
            <a:ext cx="8170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остеоми ( осифицирајући фибром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а лезија периодонталног порекла, када ћелије периодонцијума добијају потенцијал за стварање кости, цемента и фиброзног ткива у различитим пропорц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 налаз показује јасно ограничену зону расветљења која личи на цисту са присутним острвцима коштаног ткива у лу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а киретажа кроз трепанациони отвор у кортикалном дел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C74F-8E3C-418A-823E-D6C8C20CCBF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орофацијалне региј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69800" y="1660680"/>
            <a:ext cx="721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O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новне карактеристик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дају мета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ту споро и експанз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еле се 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е тумор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е туморе вили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остеог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неосте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одонт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5520-DC13-427B-8241-EEA8D127BD4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457200" y="160020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остеогени тумори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 локализован у кости, састављен од фибробласта и коолагена, веома је ретка лезија и не испољава патогномоничне клиничке или радиографске зна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, енуклеација у ц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9689-0807-4E0D-9E87-98A66622080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433440" y="1539720"/>
            <a:ext cx="826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ГАНТОЦЕЛУЛАР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ухватају већу групу лезија којима је заједнички микроскопски налаз џиновских вишеједар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чајно је да ове лезије испољавају различиту ћуд – од лезије бенигног карактера до агресивне неопла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ГЛ спад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ентрал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гантоцелуларни ту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рки тумор код хиперпаратиреод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еуризмална коштана ци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руб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22D-9A3D-4BB6-9F4E-C0F25EE4A9A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Zoran\Downloads\oralna hirurgija\slike\benigni\gigantocelulare\Zunge_etc_14.JPG"/>
          <p:cNvPicPr/>
          <p:nvPr/>
        </p:nvPicPr>
        <p:blipFill>
          <a:blip r:embed="rId1"/>
          <a:stretch/>
        </p:blipFill>
        <p:spPr>
          <a:xfrm>
            <a:off x="588960" y="2033640"/>
            <a:ext cx="7908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F205-C17C-4909-9CF0-1F2F93DE42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92240" y="1576440"/>
            <a:ext cx="8675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ферни гигантоцелуларни гранулом ( гигантоцелуларни епулис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а ГЛ лезија ви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Џиновске вишеједарне ћелије имају карактеристике остеокласта, а моноједарне ћелије показују особине моноцитно- макрофагних ћелија и остеобл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ГЛ гранулом је реактивна лезија на локалне иритације или тра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нодулус припојен за подлогу широком основом или се налази на петељ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ован је искључиво у везивном ткиву гингиве или слузокоже безубог алвеоларног греб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5F8-C6B3-486F-ACDB-F690ADC1CAF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44600" y="1708200"/>
            <a:ext cx="82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одуси су црвени или плавичасти, меки или чврсти, некад улцерисани, могу да доведу до померања зуба или ероз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C:\Users\Zoran\Downloads\oralna hirurgija\slike\benigni\gigantocelulare\a10293.005-1_big.gif"/>
          <p:cNvPicPr/>
          <p:nvPr/>
        </p:nvPicPr>
        <p:blipFill>
          <a:blip r:embed="rId1"/>
          <a:stretch/>
        </p:blipFill>
        <p:spPr>
          <a:xfrm>
            <a:off x="189000" y="3083040"/>
            <a:ext cx="4413240" cy="21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C:\Users\Zoran\Downloads\oralna hirurgija\slike\benigni\gigantocelulare\0236532955.jpg"/>
          <p:cNvPicPr/>
          <p:nvPr/>
        </p:nvPicPr>
        <p:blipFill>
          <a:blip r:embed="rId2"/>
          <a:srcRect l="14092" t="19246" r="915" b="2549"/>
          <a:stretch/>
        </p:blipFill>
        <p:spPr>
          <a:xfrm>
            <a:off x="4740120" y="262260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2"/>
          <p:cNvSpPr/>
          <p:nvPr/>
        </p:nvSpPr>
        <p:spPr>
          <a:xfrm>
            <a:off x="204840" y="55227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 са конзервативним приступ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6DB1-3695-4288-A437-F8777703FF4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444600" y="1708200"/>
            <a:ext cx="83026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ентрал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а бенигна интраосеална лезија. Лезије су обично без симптома и откривају се случајно, или због безболне експанз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агресивне лезије ( асимптоматске, расту споро, не пробијају кортекс и не изазивају ресорпцију коренова зуб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гресивне лезије ( изражени су бол, брз раст, перфорација кортекса, ресорпција коренова и често рецидивирају после хируршког уклања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C582-A347-45EE-A837-3250129177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457200" y="1647720"/>
            <a:ext cx="8205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ГГ се радиографски испољава као унилокуларно или мултилокуларно расветљење кости вилица, јасно ограничено, различите велич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снову ртг налаза није могућа дијагн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 централних гигантоцелуларних гранулома вилица је хируршка, најчешће кирета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, треба имати на уму да рецидиви нису ретка пој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времени приступ лечењу ових лезија подразумева интралезијску апликацију кортикостероида или калцито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калцитонина се заснива на идеји да овај хормон тиреоидне жлезде спречава ресорпцију кости и сузбија функцију остеокл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19E2-28D5-4986-9168-07E30B117D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33440" y="1539720"/>
            <a:ext cx="832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рки тумор код хиперпаратиреод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активна лезија кости услед хиперпаратиреодизма, која је клинички и микроскопски идентична централном гигантоцелуларном гранулому ви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е лезије често захватају мандибулу, клавикулу, ребра и карлицу у случајевима хипертиреод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нифестује се као интраосеална лезија која често перфорира кортекс. Некад се испољава и као епулис или расте из екстракционе ране. Лезије су чешће мултип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тумори се не лече оралнохирур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0" y="6424560"/>
            <a:ext cx="41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727-1FD6-47EC-82AB-6BED453DFA8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69800" y="1479600"/>
            <a:ext cx="8180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еуризмална кошта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тка реактивна интраосеална псеудоциста, најчешће локализована у дугим костима и пршљеновима, а знатно ређе у вилиц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се испољавају отоком меког ткива услед експанзије кости. Оток обично има брзу еволуци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показује мултилокуларно или унилокуларно расветљење кости обично удружено са истањењем корт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е сматра да је анеуризмална коштана циста, заправо, агресивна варијанта гигантоцелуларног грану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743-2A0F-4B3F-8367-CA31A873BB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469800" y="1708200"/>
            <a:ext cx="818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Черуб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генетски поремећај развоја вилица који се карактерише њиховим билатералним безболним увећањ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 је чешћи у доњој него у горњој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C:\Users\Zoran\Downloads\oralna hirurgija\slike\benigni\images (5).jpg"/>
          <p:cNvPicPr/>
          <p:nvPr/>
        </p:nvPicPr>
        <p:blipFill>
          <a:blip r:embed="rId1"/>
          <a:stretch/>
        </p:blipFill>
        <p:spPr>
          <a:xfrm>
            <a:off x="625320" y="3645000"/>
            <a:ext cx="4146840" cy="232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Users\Zoran\Downloads\oralna hirurgija\slike\benigni\download (5).jpg"/>
          <p:cNvPicPr/>
          <p:nvPr/>
        </p:nvPicPr>
        <p:blipFill>
          <a:blip r:embed="rId2"/>
          <a:srcRect l="52740" t="8199" r="19881" b="11923"/>
          <a:stretch/>
        </p:blipFill>
        <p:spPr>
          <a:xfrm>
            <a:off x="5418000" y="3289320"/>
            <a:ext cx="2948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674A-B1A4-429A-9FC4-22A25069826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744560"/>
            <a:ext cx="814536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ациј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но ( усне, образ, под уста, језик и гингив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убљим интерфасцијалним прос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ичу од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лих ткива мезенхим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69C-2184-4A0E-8068-6007A05B2C6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420840" y="1563840"/>
            <a:ext cx="8205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уроге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Шваном ( неурилемо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дак бенигни тумор вилица који потиче од Шванов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лавном се јављају у доњој вилици као солитарна лезија у задњем делу тела или рамусу. Тумор лагано расте, најчешће асимптоматски ( могућа појава осетљивости и парестезиј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актеристичан ртг налаз показује јасно ограничено расветљење оивичено танком зоном склеротичне кости. Зуби у суседству лезије су малпонирани и показују знаке ресорп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енуклеација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40A-8142-416A-9D89-9D2ECC25BE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44600" y="1636560"/>
            <a:ext cx="819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Неуро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 редак солитарни тум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мптоми могу варирати од потпуно асимптоматске лезије, до веома болне, поготову у току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 се види као неправилно расветљење без јасних граница, обично иза менталног отвора повезано са мандибуларним кан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и приступ зависи од величине и локализациј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олико лезија није директно повезана са нервним стаблом може се једноставно енуклеирати. У противном, треба је ексцидирати заједно са нер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3F1-5B54-490A-9634-2BC183309A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69800" y="1708200"/>
            <a:ext cx="8674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не мал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стају као последица грешака у васкуларној морфогенези, јављају се на рођењу, а углавном постају евидентне након трауме, хируршке интервенције или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имптоматологија је неспецифична: оток, асиметрија лица, осећај притиска, бол, покретљивост зуба, епистакса, повремено спонтано крварење око вратов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Лечење може бити нехируршко (склерозирање лезије) и хируршко ( киретажа, емболизација, ресекциј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E3E5-AFEF-4B51-B606-B79D15C9627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469800" y="1660680"/>
            <a:ext cx="81694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гени тумори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ухватају групу лезија које су настале  од зубних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енствено су интраосеалне лезије ( централне ), али могу се јавити и екстраосеал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асификација одонтогених тумора је начињена  у складу са генезом ткива  од које поти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енхи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C4E1-C2E5-4149-9BD2-57BC8EA3B3F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42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444600" y="1647720"/>
            <a:ext cx="8134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и ( искључиво од одонтогеног епител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јчешће развија из глеђног органа или његових ћелијских остат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у облику солидне мултицистичне лезије, са одликама спорог, локално инвазивног раста, али уопштено бенигног понаш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тно чешће се јавља у мандибули и то у бочном делу тела и раму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т тумора је асимптоматског карактера, али се веће лезије испољавају експанзијом вилице и о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A1F-C4BC-4A39-B3DC-60ED000849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8" name="Freeform 28"/>
          <p:cNvSpPr/>
          <p:nvPr/>
        </p:nvSpPr>
        <p:spPr>
          <a:xfrm>
            <a:off x="5734080" y="3728880"/>
            <a:ext cx="401760" cy="1011240"/>
          </a:xfrm>
          <a:custGeom>
            <a:avLst/>
            <a:gdLst>
              <a:gd name="textAreaLeft" fmla="*/ 0 w 401760"/>
              <a:gd name="textAreaRight" fmla="*/ 402120 w 4017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536" h="1200">
                <a:moveTo>
                  <a:pt x="296" y="0"/>
                </a:moveTo>
                <a:cubicBezTo>
                  <a:pt x="200" y="76"/>
                  <a:pt x="104" y="152"/>
                  <a:pt x="56" y="240"/>
                </a:cubicBezTo>
                <a:cubicBezTo>
                  <a:pt x="8" y="328"/>
                  <a:pt x="0" y="440"/>
                  <a:pt x="8" y="528"/>
                </a:cubicBezTo>
                <a:cubicBezTo>
                  <a:pt x="16" y="616"/>
                  <a:pt x="64" y="696"/>
                  <a:pt x="104" y="768"/>
                </a:cubicBezTo>
                <a:cubicBezTo>
                  <a:pt x="144" y="840"/>
                  <a:pt x="176" y="888"/>
                  <a:pt x="248" y="960"/>
                </a:cubicBezTo>
                <a:cubicBezTo>
                  <a:pt x="320" y="1032"/>
                  <a:pt x="488" y="1160"/>
                  <a:pt x="536" y="1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480960" y="1731960"/>
            <a:ext cx="83869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амелобластом најчешће даје слику мултилокуларног расветљења вилице, са ресорпцијом коренова сусед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зија може да буде удружена са неизниклим 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скопски налаз показује бројне варијанте које нису у вези  са биолошким понашањем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облици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ликуларн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ексифор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4138560" y="45957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РЕСЕКЦИЈА ЕН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14F-CE21-4055-AA4B-AFDB43978A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Zoran\Downloads\oralna hirurgija\slike\benigni\download (3).jpg"/>
          <p:cNvPicPr/>
          <p:nvPr/>
        </p:nvPicPr>
        <p:blipFill>
          <a:blip r:embed="rId1"/>
          <a:stretch/>
        </p:blipFill>
        <p:spPr>
          <a:xfrm>
            <a:off x="293760" y="1476360"/>
            <a:ext cx="2363760" cy="2951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Zoran\Downloads\oralna hirurgija\slike\benigni\download (4).jpg"/>
          <p:cNvPicPr/>
          <p:nvPr/>
        </p:nvPicPr>
        <p:blipFill>
          <a:blip r:embed="rId2"/>
          <a:stretch/>
        </p:blipFill>
        <p:spPr>
          <a:xfrm>
            <a:off x="5243400" y="1579680"/>
            <a:ext cx="3684600" cy="2268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Zoran\Downloads\oralna hirurgija\slike\benigni\images (4).jpg"/>
          <p:cNvPicPr/>
          <p:nvPr/>
        </p:nvPicPr>
        <p:blipFill>
          <a:blip r:embed="rId3"/>
          <a:stretch/>
        </p:blipFill>
        <p:spPr>
          <a:xfrm>
            <a:off x="2795760" y="3963960"/>
            <a:ext cx="451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FE6-D5DB-45BA-BCFB-A8FD09AB865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493560" y="1636560"/>
            <a:ext cx="821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и ( од одонтогеног епитела и ектомезенхим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ични 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дак. Јавља се код млађих пацијената, у прве две деценије живота. Расте асимптоматски, а ртг налаз се описује као унилокуларно или мултилокуларно расветљење, са јасно ограниченим ивиц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ако је бенигни тумор, лечи се радикално ресекцијом дела вилице, због рецидива као малигни амелобластични фиброса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DA9-8667-4277-A7FB-65B1355D873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46980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ични фибро – одо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ичан преходном, али хистолошки садржи глеђ и ден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ће је да је овај тумор само фаза у развоју одон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разлику од АФ не рецидивира и лечи се конзервативно хируршки енуклеацијом у целости и обично се лако одваја од сусед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0" y="6424560"/>
            <a:ext cx="4100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49A1-CC90-4D70-A024-B808AFA54C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444600" y="1671480"/>
            <a:ext cx="82058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донт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најчешћи одонтогени тумори. Они и нису заправо неоплазме већ развојне аномалије ( хамартом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пуно развијени одонтоми садрже глеђ, дентин и различиту количину пулпе и це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е с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ишеделно сложн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mpound composite odontom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инствено сложен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mplex composite odontom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AE4D-B25C-4FDB-9B0F-966313F534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80960" y="193680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96720" y="162576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ПИТЕЛ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пил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тају на површини оралног епитела. Могу се наћи на образу, уснама, језику или слузокожи неп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ју егзофитичне бенигне, петељкасте туморе, јасно ограничене, некад покретне најчешће храпаве површ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папилома су мањих димензија  ( неколико милиметар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а карактеристика тумора је пролиферација спинозних ћелија папиларног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0" y="6424560"/>
            <a:ext cx="411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2148-96EA-4400-8C8E-87E3D51729C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444600" y="1697040"/>
            <a:ext cx="819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виру ото-денталног синдрома, могу да се јаве и мултипли одонто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компоновани одонтом показује бројне мале творевине сличне зубима, окружене зоном расветљења и јасно ограничене од околне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ми се лече хируршки, конзервативним приступ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3A4-3D82-4885-B3D9-883C73B7D1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Zoran\Downloads\oralna hirurgija\slike\benigni\download (1).jpg"/>
          <p:cNvPicPr/>
          <p:nvPr/>
        </p:nvPicPr>
        <p:blipFill>
          <a:blip r:embed="rId1"/>
          <a:stretch/>
        </p:blipFill>
        <p:spPr>
          <a:xfrm>
            <a:off x="5511960" y="1781280"/>
            <a:ext cx="3170160" cy="21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Zoran\Downloads\oralna hirurgija\slike\benigni\images (1).jpg"/>
          <p:cNvPicPr/>
          <p:nvPr/>
        </p:nvPicPr>
        <p:blipFill>
          <a:blip r:embed="rId2"/>
          <a:stretch/>
        </p:blipFill>
        <p:spPr>
          <a:xfrm>
            <a:off x="457200" y="1673280"/>
            <a:ext cx="2419200" cy="313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Zoran\Downloads\oralna hirurgija\slike\benigni\images (2).jpg"/>
          <p:cNvPicPr/>
          <p:nvPr/>
        </p:nvPicPr>
        <p:blipFill>
          <a:blip r:embed="rId3"/>
          <a:stretch/>
        </p:blipFill>
        <p:spPr>
          <a:xfrm>
            <a:off x="3160800" y="4067280"/>
            <a:ext cx="29937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1E8-FB7B-4EB7-AF66-16ED22DAD60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469800" y="1576440"/>
            <a:ext cx="814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енхимни одонтоге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донтогени 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дак тумор, који се јавља у било ком старосном до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ле лезије су обично асимптоматске, док веће врше експанзију кости  и проузрокују расклаћење сусед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и се хируршки , енуклеацијом , а рецидиви су р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C193-B0F7-4F50-97B8-0605313AB8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444600" y="1671480"/>
            <a:ext cx="8181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икс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и тумори. Радиографски се виде као уницистично  или мултицистично расветљење јасно или нејасно огранич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соми вилица нису инкапсулирани већ инфилтришу околну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тога није могуће у целости их уклонити конзервативним хируршким поступ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е лезије се уклањају радикално , ресекцијом дела вилице због спречавања рецид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2902-D4D7-4F3B-9F2E-B3F50F3366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433440" y="1684440"/>
            <a:ext cx="81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ементобл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дак тумор кога је тешко разграничити од остеоблас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налази у моларном пределу доње вилице повезан са кореновима првог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 је енуклеација лезије, истовремена са екстракцијом или апикотомијом захваће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цидиви се не јављ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11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79CD-C58B-400D-833A-1504CF5439D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C:\Users\Zoran\Downloads\oralna hirurgija\slike\benigni\download.jpg"/>
          <p:cNvPicPr/>
          <p:nvPr/>
        </p:nvPicPr>
        <p:blipFill>
          <a:blip r:embed="rId1"/>
          <a:stretch/>
        </p:blipFill>
        <p:spPr>
          <a:xfrm>
            <a:off x="201600" y="1486080"/>
            <a:ext cx="3692520" cy="2449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Zoran\Downloads\oralna hirurgija\slike\benigni\download (2).jpg"/>
          <p:cNvPicPr/>
          <p:nvPr/>
        </p:nvPicPr>
        <p:blipFill>
          <a:blip r:embed="rId2"/>
          <a:srcRect l="5852" t="126" r="0" b="0"/>
          <a:stretch/>
        </p:blipFill>
        <p:spPr>
          <a:xfrm>
            <a:off x="6653160" y="1432080"/>
            <a:ext cx="2282760" cy="3527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Zoran\Downloads\oralna hirurgija\slike\benigni\images.jpg"/>
          <p:cNvPicPr/>
          <p:nvPr/>
        </p:nvPicPr>
        <p:blipFill>
          <a:blip r:embed="rId3"/>
          <a:stretch/>
        </p:blipFill>
        <p:spPr>
          <a:xfrm>
            <a:off x="4181400" y="3076560"/>
            <a:ext cx="20764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858-CF75-414D-891D-DFEA32B43E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33440" y="1660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пиломи се лече ексцизијом ( или деструкцијом електрокаутером или криосонд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benigni\papiloma\download.jpg"/>
          <p:cNvPicPr/>
          <p:nvPr/>
        </p:nvPicPr>
        <p:blipFill>
          <a:blip r:embed="rId1"/>
          <a:stretch/>
        </p:blipFill>
        <p:spPr>
          <a:xfrm>
            <a:off x="361800" y="2513160"/>
            <a:ext cx="2511720" cy="24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Zoran\Downloads\oralna hirurgija\slike\benigni\papiloma\images (1).jpg"/>
          <p:cNvPicPr/>
          <p:nvPr/>
        </p:nvPicPr>
        <p:blipFill>
          <a:blip r:embed="rId2"/>
          <a:stretch/>
        </p:blipFill>
        <p:spPr>
          <a:xfrm>
            <a:off x="3233880" y="460224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Users\Zoran\Downloads\oralna hirurgija\slike\benigni\papiloma\images (2).jpg"/>
          <p:cNvPicPr/>
          <p:nvPr/>
        </p:nvPicPr>
        <p:blipFill>
          <a:blip r:embed="rId3"/>
          <a:stretch/>
        </p:blipFill>
        <p:spPr>
          <a:xfrm>
            <a:off x="5708520" y="2320920"/>
            <a:ext cx="3216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9515-63EA-446B-8889-987ADC2F107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57200" y="1697040"/>
            <a:ext cx="8205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еукоплак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ју беличасте лезије оралне слузокоже које се не могу сматрати туморима у правом смислу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 због могуће малигне алтерације ( 4% у 20 година ), ове промене треба сматрати премалигним л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изглед оралне леукоплакије може да варира од изоловане беле мрље на оралној слузници  до дифузно распрострањене промене на широкој површини различите боје ( бела,сивкаста, жућкаста код пушач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а такође може бити глатка до дубоко избразд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D2B-DF39-4B7C-BBB2-85B7D37530F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57200" y="1647720"/>
            <a:ext cx="821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скопски,  леукоплакија се карактерише знацима хиперкератозе, паракератозе и акант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разита атипија епителних ћелија ( дискератоза ) може да сигнализира развој карцином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situ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, пре свега, подразумева уклањање узрочног фа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иритације различитог карактера ) ако се може идентифико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у ексцизију промене треба предузети када лезија поприми атипичан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4DB2-7846-46A2-B41F-3B41E51417A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99" name="Picture 8" descr="C:\Users\Zoran\Downloads\oralna hirurgija\slike\benigni\leukop\images.jpg"/>
          <p:cNvPicPr/>
          <p:nvPr/>
        </p:nvPicPr>
        <p:blipFill>
          <a:blip r:embed="rId1"/>
          <a:stretch/>
        </p:blipFill>
        <p:spPr>
          <a:xfrm>
            <a:off x="463680" y="1549440"/>
            <a:ext cx="2466720" cy="185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Zoran\Downloads\oralna hirurgija\slike\benigni\leukop\images (1).jpg"/>
          <p:cNvPicPr/>
          <p:nvPr/>
        </p:nvPicPr>
        <p:blipFill>
          <a:blip r:embed="rId2"/>
          <a:stretch/>
        </p:blipFill>
        <p:spPr>
          <a:xfrm>
            <a:off x="3532320" y="162576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Zoran\Downloads\oralna hirurgija\slike\benigni\leukop\images (2).jpg"/>
          <p:cNvPicPr/>
          <p:nvPr/>
        </p:nvPicPr>
        <p:blipFill>
          <a:blip r:embed="rId3"/>
          <a:stretch/>
        </p:blipFill>
        <p:spPr>
          <a:xfrm>
            <a:off x="401760" y="408780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:\Users\Zoran\Downloads\oralna hirurgija\slike\benigni\leukop\images (3).jpg"/>
          <p:cNvPicPr/>
          <p:nvPr/>
        </p:nvPicPr>
        <p:blipFill>
          <a:blip r:embed="rId4"/>
          <a:stretch/>
        </p:blipFill>
        <p:spPr>
          <a:xfrm>
            <a:off x="3529080" y="407664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Users\Zoran\Downloads\oralna hirurgija\slike\benigni\leukop\images (4).jpg"/>
          <p:cNvPicPr/>
          <p:nvPr/>
        </p:nvPicPr>
        <p:blipFill>
          <a:blip r:embed="rId5"/>
          <a:stretch/>
        </p:blipFill>
        <p:spPr>
          <a:xfrm>
            <a:off x="6265800" y="2843280"/>
            <a:ext cx="27241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EAE-2ABD-4C35-983E-985DBAFFF32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5840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9680" y="1660680"/>
            <a:ext cx="8277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ЗИВ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чести тумори оралне шупљине које формира субмукозно везивно ткиво, укључујући и периост алвеолар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ми се клинички испољавају као тумори издигнути од површине, јасно ограничени, прекривени слузокожом нормалне боје, помични или на петељ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 , елиптичном ексцизијом  лезије и примарним затварањем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Korisnik</cp:lastModifiedBy>
  <dcterms:modified xsi:type="dcterms:W3CDTF">2019-09-09T16:04:30Z</dcterms:modified>
  <cp:revision>1812</cp:revision>
  <dc:subject/>
  <dc:title>NAZIV PREDAVANJA</dc:title>
</cp:coreProperties>
</file>